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05B0-4479-49A0-BB94-C9FFE6F4F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sues from Compromise of 1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ylor not supporting comprom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ylor dies – Fillmore becomes P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immediately accepted by North or So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 issue for Clay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ern radicals lose momen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balanced comprom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– California changes balance, free soilers, reduction i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as l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 – partial victory in DC, stronger Runaway Law bu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s fuel for abolitionist m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ion of 185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gs choose Scott over Fillm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 of the Whi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forms based on Compromise of 1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slavery and expa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tempts to expand military power to Japan, Nicaragua, and Cu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tend Manife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ret plan to buy Cuba from Spain – if not justification to take by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posed by North – dropped by Pie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 issue prohibits external expa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acts of Gadsden Purch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s a southern railroad route to the Pacific protected by federal gover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eates Northern demand for railroads through Nebraska Terri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lit Nebraska territory into Kansas and Nebraska – maintain sectional balance and provide opportunity for Northern rail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eal Missouri Compromise to allow expansion of sla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thern response to repeal of Missouri Comprom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tle for Kans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rth of Republican Par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d West Party – sectional party focused on no extension of sla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o party – whigs, northern dems, free-soilers, know-noth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night second major party – hated by Southern Democr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thern assumption of Kansas-Nebraska deal was that Kansas w/b slave and Nebraska free – wr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sas too close to call – both sides send ringers to alter out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slavery raiders attack Lawrence Kansas – creates response from John Brown (attack at Pottawatomie Creek) kills f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sas battleground for pro and anti slavery fo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compton Constitution – condition for statehood proslavery forces create constitution that forces issue (with or w/o slavery) condition protects slave owners already in Kans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ident Buchanan supports constitution – Douglas creates protest and forces popular vote on entire constitution (voted down – delays statehoo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ner vs. Brooks (Mass vs. SC)  Sumner insults proslavers and SC – Brooks beats him with a c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ion of 18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s – pick Old Buck over Pierce and Doug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s – pick John Fremo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w-nothings – new wave of antiimmigration and antiCatholic pick Fill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ed Scott v. San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s or status of slaves – people or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ing slaves between free and slav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ity of Missouri Com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s split in Democra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ls sec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sh of 18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cy crisis, overproduction of g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 – false sense of Southern economic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tead Act – 160 acres free if improved over 5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ariffs – recent tariff reductions blamed for cr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-D deb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58 Illinois Senate co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issues on expansion, popular sovereignty, power of the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ern – Douglas (popular sovereign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– Breckinridge – extension of slavery into territories and Cu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party for Union – John 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ward vs. Lincoln – Lincoln viewed as less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 on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6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 votes for special convention four days after 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tate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1861 – Confederate States of America – Jefferson Da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hanan allows secession w/o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and se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Compromise – se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1DF-906C-434F-811C-94375275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4F7-21F6-40DA-B372-F6460F21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FC8-BEBA-4A25-86CF-401DD58D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B51-6DF3-45DF-B63B-886C1C2F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D30-95E1-4BA4-8E34-67284A53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B0C-AAE4-409D-8EA3-6D80A69E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E5E-4A13-422B-8F15-D9AFC0EA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A05-CFB1-43A1-8D0D-E58DC50A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810-8398-4F4B-ADBE-3CAF7AF5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DF9-8C32-474B-9E66-BA030646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B97-B855-4C5F-BEE7-BAAD9DFD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D19-04FD-45D4-9391-8304471F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05C6-8593-46A5-BBD2-201005B7D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Keys Par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ompromise of 1850 / Election of 1852 Pages 492-50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ompromise of 18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lay-Webster vs. Calh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ssues /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Election of 18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ndidates /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ierce’s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Ostend Manif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sas-Nebraska Ac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ges 505- 5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ansas – Nebraska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publican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a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o, what,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ection of 1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red Scott / Lincoln-Douglas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ages 511-5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ed Scot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rash of 18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ncoln vs. Dou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reeport Doct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utur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rise and fall of John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1860 Election / End of the Union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Pages 515-5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litical Part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moc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itutional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ion of 18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rittenden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ession/Border St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30-5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S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ng Shot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the Bord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the Comba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Advantages/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Advantages/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2:52:10Z</dcterms:created>
  <dc:creator>School District U46</dc:creator>
  <dc:description/>
  <dc:language>en-US</dc:language>
  <cp:lastModifiedBy>School District U46</cp:lastModifiedBy>
  <dcterms:modified xsi:type="dcterms:W3CDTF">2009-11-30T12:52:23Z</dcterms:modified>
  <cp:revision>1</cp:revision>
  <dc:subject/>
  <dc:title>Unit 6</dc:title>
</cp:coreProperties>
</file>